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8E4-C96B-418D-BBE3-4974CF90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8472-66A3-44D4-BA2A-6F29D978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DBF-EE8B-4B27-8351-D10182574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6F4E-991E-4A96-A1B3-F0F3771A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6CBB3-B9E3-4E9B-B879-DD53156A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18122-70FD-4B5F-B9AE-9D5D3904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1A36D-AB84-4424-9BF1-D8EDBA36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339C7-B80A-4ECA-A6DC-B8B4284B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51D6A-C89A-4DE1-944B-37AD29D5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D1E4F-BC88-47D7-B7F5-18969AED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04B56-9229-4C20-A965-5B7A6F6F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A0D-8481-4642-AF4D-0C9009C8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89842-7C6D-46F4-93CA-162A146E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34345-1B7D-4663-838B-B10E0DF5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99207-931A-4674-9773-AC52DAFD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16240-28A1-4A20-973B-85182CB5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754C8-18EC-435E-B449-86BFE3BD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0DC-E2ED-4803-A16F-74905B06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C9F-69D0-441D-9948-16C20724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589-93E1-4635-9464-33F0459E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0C5-1F6F-44D8-BF1E-9C2FA32A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253-F320-4C21-91CE-53484309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036-054C-42C5-A055-7ABC86F5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D61E-642D-4C18-9166-6BC3C82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10A4-8385-4410-BBAE-A1BE653CB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7693-E49F-46B8-90AA-475D6A2E8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ostreinc.com/articleimages/watch-whales-atlantis-12-06.jpg&amp;imgrefurl=http://laurel700.stumbleupon.com/archive/30/&amp;h=1661&amp;w=1800&amp;sz=546&amp;hl=en&amp;start=1&amp;tbnid=mKg2_qu2_ML4IM:&amp;tbnh=138&amp;tbnw=150&amp;prev=/images%3Fq%3Dwhales%26gbv%3D2%26hl%3De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iller Wha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Jackailyn Chaiv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5720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o you think Killer Whales are interesting? If so, read to find out more about the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iller Whales are hunters but they don’t attack people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17680"/>
            <a:ext cx="8229600" cy="37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y can get to the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150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780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iller Whales eat fish. Killer Whales can eat other kinds of whale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y are not in their grou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3200400"/>
            <a:ext cx="3810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ople call Killer Whales an orca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 call a Killer Whale an orca because it is shor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14600" y="3429000"/>
            <a:ext cx="47340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iller whales have do not have gill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ller Whales do not have gills because they have a blow hole on their bac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388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ffff"/>
                </a:solidFill>
                <a:latin typeface="Tahoma"/>
              </a:rPr>
              <a:t>That’s what Killer whales do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57400" y="1438200"/>
            <a:ext cx="5000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34:49Z</dcterms:modified>
  <cp:revision>8</cp:revision>
  <dc:subject/>
  <dc:title>Animal Name</dc:title>
</cp:coreProperties>
</file>